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1600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16D3-0AFD-49F6-9883-ACD94136FCF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Times New Roman"/>
              <a:ea typeface="华文中宋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EC56-7926-46EE-8806-BD2157CC98D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F089-6174-4BC6-A857-5268A04F34B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1222-A556-47A0-8C66-281070CC1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BFCA-C4CC-4C01-870C-B869797F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0929-110D-478C-8D61-572A48705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8F98-ECC6-4CE9-8881-BAD1702A5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2812-CAB7-48BA-A870-D9C7B9ADE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FA03-5D46-48A3-BD08-4387C3F7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45E7-AE28-4916-8A26-E49EC94E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F735-8AF7-4A01-AE39-E21B202D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5864-7D3B-44B8-8CC9-FC6F9E22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6002-8F32-4195-8760-472216A7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6AA5-2AAC-4A58-B238-80052E2F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12B6-363F-40DB-957C-D72E3437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8A00-613A-4E51-9D61-3C99FDF4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93F4-D719-40E7-B085-73D5E7AE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FB82-58A9-44FD-97BD-49070FE7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C6B5-0C6A-4771-9F72-EF10532D3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9425-AE08-46D6-BF4F-61FF651B3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567C-9223-43F3-950D-702A3E97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98A8-B6DA-496E-BED4-21C4F057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56D9-0510-4EEA-9F56-E76F9402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F6EC-4966-48A0-A752-07A33FE6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2BAE-EB6E-4DF6-93C6-A0EC7113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9E25-9E8D-406E-A40E-8BCA3FF8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0604-046A-480B-95E5-9FE8A2AB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B0EB-A662-4F53-8522-E8147315585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2154-966D-4281-A645-641CF40CB74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第七章  </a:t>
            </a:r>
            <a:r>
              <a:rPr b="1" lang="zh-CN" sz="3800" spc="-1" strike="noStrike">
                <a:solidFill>
                  <a:srgbClr val="3b812f"/>
                </a:solidFill>
                <a:latin typeface="Garamond"/>
              </a:rPr>
              <a:t>阿米巴 </a:t>
            </a:r>
            <a:br>
              <a:rPr sz="3800"/>
            </a:br>
            <a:r>
              <a:rPr b="1" lang="zh-CN" sz="3800" spc="-1" strike="noStrike">
                <a:solidFill>
                  <a:srgbClr val="3b812f"/>
                </a:solidFill>
                <a:latin typeface="Garamond"/>
              </a:rPr>
              <a:t> </a:t>
            </a:r>
            <a:r>
              <a:rPr b="1" lang="en-US" sz="3800" spc="-1" strike="noStrike">
                <a:solidFill>
                  <a:srgbClr val="3b812f"/>
                </a:solidFill>
                <a:latin typeface="Garamond"/>
              </a:rPr>
              <a:t>Amoeb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834920" y="4436640"/>
            <a:ext cx="655308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5759280" cy="9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820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体感染溶组织内阿米巴后，大多表现为带虫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与以下因素有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虫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米巴侵袭力    半乳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酰氨基半乳糖凝集素；阿米巴穿孔素；半胱氨酸蛋白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寄生的环境 （宿主肠道内共生菌群、糖类饮食、黏膜损伤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宿主的免疫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26920" y="764640"/>
            <a:ext cx="7925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体感染溶组织内阿米巴后大多数表现为</a:t>
            </a:r>
            <a:r>
              <a:rPr b="1" lang="zh-CN" sz="2400" spc="-1" strike="noStrike">
                <a:solidFill>
                  <a:srgbClr val="3b812f"/>
                </a:solidFill>
                <a:latin typeface="宋体"/>
              </a:rPr>
              <a:t>带虫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少数出现肠阿米巴病和肠外阿米巴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3b812f"/>
                </a:solidFill>
                <a:latin typeface="宋体"/>
              </a:rPr>
              <a:t>肠阿米巴病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                                                    急性患者临床症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阿米巴痢疾：</a:t>
            </a:r>
            <a:r>
              <a:rPr b="1" lang="zh-CN" sz="2400" spc="-1" strike="noStrike">
                <a:solidFill>
                  <a:srgbClr val="006633"/>
                </a:solidFill>
                <a:latin typeface="宋体"/>
              </a:rPr>
              <a:t>黏液脓血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腹痛、腹泻、粪便恶臭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慢性患者： 便秘、腹泻交替出现，腹部的盲肠或乙状结肠部位可触及能移动的结节状包块。阿米巴肿导致肠腔狭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755640" y="105228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典型病变：烧瓶样溃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ent-hist-flask"/>
          <p:cNvPicPr/>
          <p:nvPr/>
        </p:nvPicPr>
        <p:blipFill>
          <a:blip r:embed="rId1"/>
          <a:srcRect l="0" t="8883" r="0" b="6668"/>
          <a:stretch/>
        </p:blipFill>
        <p:spPr>
          <a:xfrm>
            <a:off x="1692360" y="2349360"/>
            <a:ext cx="57610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7920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3b812f"/>
                </a:solidFill>
                <a:latin typeface="Arial"/>
              </a:rPr>
              <a:t>肠外阿米巴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米巴肝脓肿 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发生在肝右叶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患者出现肝大、肝区疼痛、发热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体重下降等临床表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阿米巴肺脓肿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由肝脓肿穿过横膈转移到肺所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患者有胸痛、咳嗽、发热等临床表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其他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皮肤阿米巴溃疡，脑、脾、肾等部位的阿米巴脓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四、实验诊断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345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病原学检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滋养体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急性期腹泻的患者，生理盐水直接涂片法查滋养体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活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包囊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在带虫者或慢性患者成形粪便中查包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46a32"/>
                </a:solidFill>
                <a:latin typeface="宋体"/>
              </a:rPr>
              <a:t>免疫学诊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685800" y="419112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五、流行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79246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组织内阿米巴的感染遍及全世界，流行与当地的环境卫生水平关系很大，以热带和亚热带地区的感染率较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传染源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慢性患者及无症状的带囊者为重要的传染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传播途径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水源被包囊污染是造成溶组织内阿米巴流行的重要因素，节肢动物机械携带包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感人群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同年龄、性别的无免疫力人群均可感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欧美，高发人群为男性同性恋者和旅游者，该病被列为</a:t>
            </a:r>
            <a:r>
              <a:rPr b="1" i="1" lang="zh-CN" sz="2000" spc="-1" strike="noStrike">
                <a:solidFill>
                  <a:srgbClr val="cf2949"/>
                </a:solidFill>
                <a:latin typeface="华文中宋"/>
                <a:ea typeface="华文中宋"/>
              </a:rPr>
              <a:t>性传播疾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宋体"/>
              </a:rPr>
              <a:t>六、治疗和预防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患者和带囊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甲硝唑为治疗阿米巴痢疾和肝脓肿的特效药，可杀灭滋养体；喹碘方消灭带虫者肠腔中的包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切断传播途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粪便管理、保护水源，避免污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卫生宣传教育，注意个人卫生、饮水卫生和饮食卫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灭蝇、蜚蠊等传播媒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623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第二节  致病性自生生活阿米巴</a:t>
            </a:r>
            <a:br>
              <a:rPr sz="3600"/>
            </a:br>
            <a:r>
              <a:rPr b="1" lang="zh-CN" sz="5000" spc="-1" strike="noStrike">
                <a:solidFill>
                  <a:srgbClr val="006633"/>
                </a:solidFill>
                <a:latin typeface="Garamond"/>
              </a:rPr>
              <a:t>棘阿米巴</a:t>
            </a:r>
            <a:br>
              <a:rPr sz="5000"/>
            </a:br>
            <a:r>
              <a:rPr b="1" i="1" lang="en-US" sz="5000" spc="-1" strike="noStrike">
                <a:solidFill>
                  <a:srgbClr val="006633"/>
                </a:solidFill>
                <a:latin typeface="Garamond"/>
              </a:rPr>
              <a:t>Acanthamoeba </a:t>
            </a: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spp</a:t>
            </a:r>
            <a:r>
              <a:rPr b="1" i="1" lang="en-US" sz="5000" spc="-1" strike="noStrike">
                <a:solidFill>
                  <a:srgbClr val="006633"/>
                </a:solidFill>
                <a:latin typeface="Garamond"/>
              </a:rPr>
              <a:t>.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476000" y="4797360"/>
            <a:ext cx="6553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611280" y="549360"/>
            <a:ext cx="8229600" cy="20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Tahoma"/>
              </a:rPr>
              <a:t>形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滋养体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形态不规则，有棘刺样伪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包囊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球形，双层囊壁，外层皱折不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ahoma"/>
              </a:rPr>
              <a:t>生活史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棘阿米巴多见于污染的土壤和水体中，滋养体以细菌为食，二分裂方式生殖，并可形成包囊；人接触含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滋养体和包囊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的水体时，经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皮肤伤口、呼吸道及损伤的角膜、眼结膜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等侵入人体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6" name="Picture 2" descr="棘阿米巴滋养体"/>
          <p:cNvPicPr/>
          <p:nvPr/>
        </p:nvPicPr>
        <p:blipFill>
          <a:blip r:embed="rId1"/>
          <a:stretch/>
        </p:blipFill>
        <p:spPr>
          <a:xfrm>
            <a:off x="1692360" y="3357720"/>
            <a:ext cx="2601720" cy="2120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1979640" y="5516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棘阿米巴滋养体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5076720" y="5589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棘阿米巴包囊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2"/>
          <a:stretch/>
        </p:blipFill>
        <p:spPr>
          <a:xfrm>
            <a:off x="4859280" y="3359160"/>
            <a:ext cx="23623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826920" y="765000"/>
            <a:ext cx="7561440" cy="12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致病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１、多见于慢性病患者和免疫力低下者，可能由呼吸道或皮肤侵入、血行传播引起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肉芽肿性阿米巴脑炎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GAE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发病后数周或数月内死亡。临床以占位性病变为主，潜伏期较长，脑脊液中以淋巴细胞为主。病灶中滋养体和包囊可同时存在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   ２、角膜外伤、接触污水或配戴隐形眼镜可引起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角膜炎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AK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患者眼部有异物感，畏光、流泪、视物模糊等，反复发作可致角膜溃疡甚至角膜穿孔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971640" y="479736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病原学诊断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脑脊液或角膜刮取物查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029"/>
          <p:cNvSpPr/>
          <p:nvPr/>
        </p:nvSpPr>
        <p:spPr>
          <a:xfrm>
            <a:off x="971640" y="126828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寄生在人体内的阿米巴原虫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6" name="Text Box 1032"/>
          <p:cNvSpPr/>
          <p:nvPr/>
        </p:nvSpPr>
        <p:spPr>
          <a:xfrm>
            <a:off x="6012000" y="1989000"/>
            <a:ext cx="1800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致病情况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7" name="组合 11"/>
          <p:cNvGrpSpPr/>
          <p:nvPr/>
        </p:nvGrpSpPr>
        <p:grpSpPr>
          <a:xfrm>
            <a:off x="1403280" y="1916280"/>
            <a:ext cx="6245280" cy="4257360"/>
            <a:chOff x="1403280" y="1916280"/>
            <a:chExt cx="6245280" cy="4257360"/>
          </a:xfrm>
        </p:grpSpPr>
        <p:sp>
          <p:nvSpPr>
            <p:cNvPr id="98" name="Text Box 1028"/>
            <p:cNvSpPr/>
            <p:nvPr/>
          </p:nvSpPr>
          <p:spPr>
            <a:xfrm>
              <a:off x="1403280" y="2158560"/>
              <a:ext cx="251460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</a:t>
              </a: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endParaRPr b="0" lang="en-US" sz="12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溶组织内阿米巴结肠内阿米巴　哈氏内阿米巴　微小内蜒阿米巴布氏嗜碘阿米巴齿龈内阿米巴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99" name="Text Box 1030"/>
            <p:cNvSpPr/>
            <p:nvPr/>
          </p:nvSpPr>
          <p:spPr>
            <a:xfrm>
              <a:off x="2089080" y="1953720"/>
              <a:ext cx="83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种类　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0" name="Text Box 1033"/>
            <p:cNvSpPr/>
            <p:nvPr/>
          </p:nvSpPr>
          <p:spPr>
            <a:xfrm>
              <a:off x="3635640" y="1916280"/>
              <a:ext cx="171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寄生部位　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1" name="Text Box 1034"/>
            <p:cNvSpPr/>
            <p:nvPr/>
          </p:nvSpPr>
          <p:spPr>
            <a:xfrm>
              <a:off x="4008600" y="2601720"/>
              <a:ext cx="1492560" cy="35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盲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盲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口腔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2" name="Text Box 1035"/>
            <p:cNvSpPr/>
            <p:nvPr/>
          </p:nvSpPr>
          <p:spPr>
            <a:xfrm>
              <a:off x="6156000" y="2780280"/>
              <a:ext cx="1492560" cy="33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03" name="TextBox 11"/>
          <p:cNvSpPr/>
          <p:nvPr/>
        </p:nvSpPr>
        <p:spPr>
          <a:xfrm>
            <a:off x="1403280" y="57326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棘阿米巴        角膜或脑部    致病，自生生活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1"/>
          <p:cNvSpPr/>
          <p:nvPr/>
        </p:nvSpPr>
        <p:spPr>
          <a:xfrm>
            <a:off x="900000" y="1125360"/>
            <a:ext cx="7559640" cy="17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46a32"/>
                </a:solidFill>
                <a:latin typeface="Arial"/>
              </a:rPr>
              <a:t>流行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世界流行，很多国家已有报导，多发生于免疫抑制患者，感染前有头或眼部受伤史或其他诱因，无明显发病季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46a32"/>
                </a:solidFill>
                <a:latin typeface="Arial"/>
              </a:rPr>
              <a:t>预防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加强水源检查，避免接触疫水或佩戴不洁隐形眼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900000" y="3284640"/>
            <a:ext cx="5832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治疗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磺胺类药物治疗角膜炎，脑炎无特效药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第一节   溶组织内阿米巴</a:t>
            </a:r>
            <a:br>
              <a:rPr sz="3800"/>
            </a:br>
            <a:r>
              <a:rPr b="1" i="1" lang="en-US" sz="3600" spc="-1" strike="noStrike">
                <a:solidFill>
                  <a:srgbClr val="006633"/>
                </a:solidFill>
                <a:latin typeface="Times New Roman"/>
              </a:rPr>
              <a:t>Entamoeba histolytic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0728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溶组织内阿米巴主要寄生在人的结肠，在一定的条件下侵入肠壁组织导致阿米巴痢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moebic dysentery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，也可侵犯肝、肺、脑等器官引起肠外阿米巴病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468360" y="476280"/>
            <a:ext cx="37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  <a:ea typeface="黑体"/>
              </a:rPr>
              <a:t>一、形态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988920" y="3403440"/>
            <a:ext cx="5189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826920" y="1341360"/>
            <a:ext cx="7632720" cy="12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滋养体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虫体活动、摄食和生殖阶段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6762600" cy="32191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1692360" y="5516640"/>
            <a:ext cx="30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吞噬红细胞的滋养体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5076720" y="5445000"/>
            <a:ext cx="30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未吞噬红细胞的滋养体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tropzoite"/>
          <p:cNvPicPr/>
          <p:nvPr/>
        </p:nvPicPr>
        <p:blipFill>
          <a:blip r:embed="rId1"/>
          <a:stretch/>
        </p:blipFill>
        <p:spPr>
          <a:xfrm>
            <a:off x="3059280" y="981000"/>
            <a:ext cx="2895480" cy="26542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8"/>
          <p:cNvSpPr/>
          <p:nvPr/>
        </p:nvSpPr>
        <p:spPr>
          <a:xfrm>
            <a:off x="1476360" y="4365720"/>
            <a:ext cx="60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內质呈颗粒状，可见被吞噬的红细胞；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内质中有一泡状核，核膜上均匀分布一层大小一致的核周染色质粒；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仁位于核中央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3789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铁苏木精染色的滋养体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10920" y="836640"/>
            <a:ext cx="8001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包囊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不摄食，不生殖的静止阶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圆球形，直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~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~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核，包囊中有拟染体和糖原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6800760" cy="1981080"/>
          </a:xfrm>
          <a:prstGeom prst="rect">
            <a:avLst/>
          </a:prstGeom>
          <a:ln w="0">
            <a:noFill/>
          </a:ln>
        </p:spPr>
      </p:pic>
      <p:sp>
        <p:nvSpPr>
          <p:cNvPr id="117" name="TextBox 6"/>
          <p:cNvSpPr/>
          <p:nvPr/>
        </p:nvSpPr>
        <p:spPr>
          <a:xfrm>
            <a:off x="2268360" y="422100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6227640" y="422100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356000" y="4221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27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657600" cy="31240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1835280" y="4869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碘液染色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5508720" y="489744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铁苏木精染色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23" name="Picture 8" descr="5-3"/>
          <p:cNvPicPr/>
          <p:nvPr/>
        </p:nvPicPr>
        <p:blipFill>
          <a:blip r:embed="rId2"/>
          <a:stretch/>
        </p:blipFill>
        <p:spPr>
          <a:xfrm>
            <a:off x="971640" y="1628640"/>
            <a:ext cx="30859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2381400" y="1494000"/>
            <a:ext cx="1796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核包囊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276720" y="2781360"/>
            <a:ext cx="1439640" cy="13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肠腔中滋养体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结肠）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26" name="Group 9"/>
          <p:cNvGrpSpPr/>
          <p:nvPr/>
        </p:nvGrpSpPr>
        <p:grpSpPr>
          <a:xfrm>
            <a:off x="4059360" y="1628280"/>
            <a:ext cx="1376280" cy="1800720"/>
            <a:chOff x="4059360" y="1628280"/>
            <a:chExt cx="1376280" cy="1800720"/>
          </a:xfrm>
        </p:grpSpPr>
        <p:sp>
          <p:nvSpPr>
            <p:cNvPr id="127" name="Line 10"/>
            <p:cNvSpPr/>
            <p:nvPr/>
          </p:nvSpPr>
          <p:spPr>
            <a:xfrm>
              <a:off x="4059360" y="1628280"/>
              <a:ext cx="137628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>
              <a:off x="5405760" y="1628640"/>
              <a:ext cx="29880" cy="18003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 flipH="1">
              <a:off x="4499640" y="3428640"/>
              <a:ext cx="91224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30" name="Rectangle 13"/>
          <p:cNvSpPr/>
          <p:nvPr/>
        </p:nvSpPr>
        <p:spPr>
          <a:xfrm>
            <a:off x="5364000" y="2133720"/>
            <a:ext cx="503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经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31" name="Group 14"/>
          <p:cNvGrpSpPr/>
          <p:nvPr/>
        </p:nvGrpSpPr>
        <p:grpSpPr>
          <a:xfrm>
            <a:off x="957240" y="1655640"/>
            <a:ext cx="2364840" cy="1843920"/>
            <a:chOff x="957240" y="1655640"/>
            <a:chExt cx="2364840" cy="1843920"/>
          </a:xfrm>
        </p:grpSpPr>
        <p:sp>
          <p:nvSpPr>
            <p:cNvPr id="132" name="Line 15"/>
            <p:cNvSpPr/>
            <p:nvPr/>
          </p:nvSpPr>
          <p:spPr>
            <a:xfrm flipH="1">
              <a:off x="2698920" y="3428280"/>
              <a:ext cx="6231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 flipV="1">
              <a:off x="971640" y="1668240"/>
              <a:ext cx="0" cy="18313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34" name="Line 17"/>
            <p:cNvSpPr/>
            <p:nvPr/>
          </p:nvSpPr>
          <p:spPr>
            <a:xfrm>
              <a:off x="957240" y="1655640"/>
              <a:ext cx="1296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35" name="Text Box 20"/>
          <p:cNvSpPr/>
          <p:nvPr/>
        </p:nvSpPr>
        <p:spPr>
          <a:xfrm>
            <a:off x="108720" y="1916280"/>
            <a:ext cx="9118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排出体外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3348000" y="5229360"/>
            <a:ext cx="1511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中滋养体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7" name="Rectangle 30"/>
          <p:cNvSpPr/>
          <p:nvPr/>
        </p:nvSpPr>
        <p:spPr>
          <a:xfrm>
            <a:off x="4211640" y="3860640"/>
            <a:ext cx="792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吞噬红细胞、组织细胞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8" name="Rectangle 31"/>
          <p:cNvSpPr/>
          <p:nvPr/>
        </p:nvSpPr>
        <p:spPr>
          <a:xfrm>
            <a:off x="3381480" y="4049640"/>
            <a:ext cx="360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溃疡脱落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716360" y="5516640"/>
            <a:ext cx="20163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0" name="Rectangle 33"/>
          <p:cNvSpPr/>
          <p:nvPr/>
        </p:nvSpPr>
        <p:spPr>
          <a:xfrm>
            <a:off x="5148360" y="5516640"/>
            <a:ext cx="99036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入血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1" name="AutoShape 34"/>
          <p:cNvSpPr/>
          <p:nvPr/>
        </p:nvSpPr>
        <p:spPr>
          <a:xfrm>
            <a:off x="6732720" y="4797360"/>
            <a:ext cx="304560" cy="1460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460520"/>
              <a:gd name="textAreaBottom" fmla="*/ 1428840 h 146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2"/>
                  <a:pt x="10800" y="1503"/>
                </a:cubicBezTo>
                <a:lnTo>
                  <a:pt x="10800" y="9297"/>
                </a:lnTo>
                <a:cubicBezTo>
                  <a:pt x="10800" y="10049"/>
                  <a:pt x="5400" y="10800"/>
                  <a:pt x="0" y="10800"/>
                </a:cubicBezTo>
                <a:cubicBezTo>
                  <a:pt x="5400" y="10800"/>
                  <a:pt x="10800" y="11552"/>
                  <a:pt x="10800" y="12303"/>
                </a:cubicBezTo>
                <a:lnTo>
                  <a:pt x="10800" y="20097"/>
                </a:lnTo>
                <a:cubicBezTo>
                  <a:pt x="10800" y="2084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2" name="Text Box 35"/>
          <p:cNvSpPr/>
          <p:nvPr/>
        </p:nvSpPr>
        <p:spPr>
          <a:xfrm>
            <a:off x="6391800" y="4869000"/>
            <a:ext cx="11552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肺脑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>
            <a:off x="611280" y="360360"/>
            <a:ext cx="38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二、生活史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 flipH="1">
            <a:off x="971280" y="3500280"/>
            <a:ext cx="6238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5" name="TextBox 33"/>
          <p:cNvSpPr/>
          <p:nvPr/>
        </p:nvSpPr>
        <p:spPr>
          <a:xfrm>
            <a:off x="1619280" y="292428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核包囊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cxnSp>
        <p:nvCxnSpPr>
          <p:cNvPr id="146" name="直接箭头连接符 36"/>
          <p:cNvCxnSpPr/>
          <p:nvPr/>
        </p:nvCxnSpPr>
        <p:spPr>
          <a:xfrm>
            <a:off x="4066920" y="3933720"/>
            <a:ext cx="1080" cy="12247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47" name="直接箭头连接符 38"/>
          <p:cNvCxnSpPr/>
          <p:nvPr/>
        </p:nvCxnSpPr>
        <p:spPr>
          <a:xfrm flipV="1">
            <a:off x="3850920" y="3903120"/>
            <a:ext cx="1080" cy="12243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</p:spTree>
  </p:cSld>
  <p:transition spd="slow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33"/>
                </a:solidFill>
                <a:latin typeface="Garamond"/>
                <a:ea typeface="黑体"/>
              </a:rPr>
              <a:t>生活史要点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920" y="1988640"/>
            <a:ext cx="7777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阶段：四核包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方式：经口感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活史的基本过程：包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滋养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包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阶段：滋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鱼艳荣</dc:creator>
  <dc:description/>
  <dc:language>en-US</dc:language>
  <cp:lastModifiedBy>hzg</cp:lastModifiedBy>
  <dcterms:modified xsi:type="dcterms:W3CDTF">2015-10-05T11:47:47Z</dcterms:modified>
  <cp:revision>401</cp:revision>
  <dc:subject/>
  <dc:title>PowerPoint Presentation</dc:title>
</cp:coreProperties>
</file>